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189-633F-4CBE-9D09-6E5DCFD9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25E-60A6-493C-B3C1-6879F375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D1062-D1DA-489F-B23E-0EE78BAC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44790-E168-4D9E-AB0F-1A8FDD02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BCE15-5B2B-4765-80FF-2597E492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1BDFE-3096-42E7-AB6F-705EA674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F55E6-33EA-4CC7-BDC2-DA8757CC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2FBC1-49D0-40CE-8C24-87682B42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21F3D-DCA0-4D15-BD43-10C4B168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2BB68-D38B-494B-8151-FCA08FEA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03CD3-1244-4F7C-85E5-88FD4F3A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E9324-39F8-4692-8B80-91637D0A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D05-0EF4-4DC2-B2DE-DC58D225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89BEB-EAE8-4825-9CBF-3D95EB9A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33300-6AC0-4074-8511-60B99F38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3637B-106B-4B0B-A39F-DDE0DA72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75B16-1DCE-4A70-8BD5-90CDCCD6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32FA3-5473-488C-9184-64B96EEF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3DD1D-2537-4421-8413-275D536E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D0FF5-D624-450D-B253-49B271C4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332A6-3F35-4146-8E5E-F05D90D3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23B4C-0F8B-4197-B033-41C93CE7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74F31-A809-485E-A2BD-C179BE32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502-1627-4D26-B8B1-460D7F1B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88BB8-685C-4F4B-8E52-8D38A59A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C9E72-AAD6-41B2-88B3-DFE2AA4E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0072C-D811-41C2-8307-9BE51500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0950D-51E7-4322-BB74-61179530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BDECD-9AE5-4E8E-BA03-709B5B53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8D524-6724-459B-AA95-292ED5A3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82173-D60A-429B-A986-F53BDC5D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C5B7A-A500-4D15-B486-1C2BE8D4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7A960-9A72-4AFF-8A5F-DB1425C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5A483-AF38-4ED7-A293-B850053F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CE91-9F61-4FBE-91D0-C8A94E90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F9E22-0A0E-4A88-8816-2DA2765D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8B1B9-554C-4A32-8698-7F828ADB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4515F-74AC-40C2-B666-D6972E6B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8D4EA-3F03-47CA-8756-30F98046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7A949-8332-41F1-837F-9E695523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C77A8-9F59-42E3-91EA-9248D1A0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526AB-9CC1-43D3-8A09-C77CA070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BFDAC-F66B-469F-88F6-C8AB9359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49932-AD3B-4BC8-8D8E-D8384639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A816E-63F9-40FF-8A72-D64E9F62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3C29-CCD5-413C-AC0F-740D73C3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54EE8-1019-40A7-8FA9-032B00C1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07A46-93B0-4066-9B18-D30CA394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DE84B-D554-4C8B-AA80-9767F21C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2EDDC-4AF7-4AD5-A648-CF53F471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F3519-8FB4-404C-85D6-3757C383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82D61-8560-4820-9FFB-49E63558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14C54-1B44-4C6A-A32C-74ACB28F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351E1-D88C-4DDF-9BA3-E66FC2BD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F4B61-979C-4476-95FD-0047D7D6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618E6-D71C-465E-B0E7-B11BA180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8795-5CC3-4427-8B2C-4AC3763C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08538-7A37-4FEF-BCCD-948B51D0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46658-418E-40BD-AF2B-C9EEE6DC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0C04C-DC3E-45BA-99BE-9125261A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5E3C2-F3F6-4AC2-A97F-03F24D2D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DC3B5-0285-49C5-9F86-83BAA721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87497-70D1-45F4-AB8D-CC13BE9B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F8495-3753-4400-9806-00CA3949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B4C5D-3C0C-44BF-9846-8B663BC6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74852-8AA2-418B-9A7C-513F4311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F298F-2840-4795-AC35-30EB4BBC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F54F-0529-4B07-93A7-6FB036D0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83FFE-A29A-4973-BB94-91F873E5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A9D66-EE94-4862-AE5D-689E7F4F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495FF-585B-4526-B3B2-8FC718DA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E0E31-BEC8-42A7-ADDE-16A90346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67ACB-26F0-4B96-8E62-ED876DFA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39236-651B-410B-9EE4-5AA33F62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429BA-DC1B-4CCA-9CFD-83ED98D4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8FF64-4D74-4CEF-88E3-80FB3229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D1D5E-681C-4CE1-A9BE-2DA8AFB3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4BF22-00DA-4E18-9AFF-460709F3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AB34-26FA-4C09-91AF-2233385A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7B9D2-9345-4EC7-90C2-EA55F90B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3D37C-9FAE-4EE7-8437-E11ACC66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2D50D-F0F7-4CC8-86A7-73A1B6C9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65430-B365-467B-A5C6-CB0AFA45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65904-753D-4797-BCEF-356665B5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9A86E-50DB-4E96-BA6C-04CCDC52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E5E79-7EE3-427C-9CB3-2745FE00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F7CF9-0A32-410E-9AA6-59EC5CE1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CD0A6-44B3-43BB-9E06-916E4AD7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F003A-91AF-4F4F-B747-7FF3F023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65C5-D915-4091-9FC8-78F73AAB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F7C6E8-D339-48DF-84E8-2C4F0EC2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4D1956-20F8-4FD8-BEB3-7EA04465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0B7CA-E6CA-4258-B990-C3C2AE60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2F669-EE59-44F5-AD4C-21D1B71B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628D2-537B-4D28-A0A5-AD2E01B4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59165-83A9-4ECB-A160-8ED00B62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C830A-2FC3-46E0-B3B5-0D94D1FF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C05D42-46FC-433D-A3AF-43DC432C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D7818-8978-4283-8C14-7FF0FB0D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D647E-A9C4-43E7-A569-C28FA44B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5B1E-4163-4779-BA0C-8BD30FD7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6E2F7-A0BF-49A4-8456-8F404B1F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FDAD8-2955-447E-9F70-213E1D68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48B33-9012-45EF-B222-9AD26282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32C8C8-D2E4-4332-93A3-22AFFB4E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E50A23-1F4A-49EA-AC95-C225348B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F086F-4000-4853-9D84-5BF7A5F1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AE82A-0560-4370-B6F7-F3AD132E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FA9602-4D2A-4195-80F2-D0009C20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A287C-75BE-480B-8608-011BA444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02966-2C17-4F76-82BE-05C3C31B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2C30-7A9B-45B9-853B-2B9A8F82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D650-EDFD-4DB9-803B-54C375F3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6223AE-B5B8-4A9E-BB70-15D38E87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718F28-03B7-4DEB-94A9-F9D234EA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3182C3-5BD3-4D35-98BD-A11482DE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706005-2F99-4E49-B6AD-5A6742B1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68DDF-BCE2-44BF-844E-89DED295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0C69E7-5B80-43AC-AD23-380C9F11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AAB24-4ECE-4670-B871-25504AC9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87F74-986B-4E9F-88A0-7E61DA29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9489B-E740-4240-AEE3-D0D1EEBC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2EF5C-9BD5-4823-ABFB-1C4A1C48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C368-9E1C-4220-A9FC-4A59DEE2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56082-FEF2-40C9-B347-30CD2652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D7E7DB-63A6-4E9A-A5F1-3489302C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70B48-C8AA-4AD9-9FF9-A20761F0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8471A-8E13-49F1-86AC-1ACE6310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E3E0EE-5AB1-4519-BFD3-D5F69235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93DBD-2355-48DE-8858-D0DDD19E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C7AA3-54C0-4F13-95E2-CC0BB70B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5EEAF4-0220-47AE-814A-9B78CF8D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5FE446-5D7F-41B1-9636-43C8BD45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F3FBEB-E964-4DE1-8D1C-EE47E4B9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A58E-967A-4252-BEBF-04665205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34F73C-A1E6-410B-B276-5140BBED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C9AE3F-8022-4243-B085-9DB07DBF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BDBA46-F766-4732-8A03-4B38ACEF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A02661-B67B-492E-9EC7-12D77953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F83C7A-9E03-47BE-B0F2-DB75218B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0819EE-DCA5-4A1E-BD51-2273AA1F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6AB905-F19C-46E2-A3B2-6E525DCD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D325B9-5D8E-40BE-96B3-8BCD15CF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2E9BEF-913A-4452-8CF0-64B24B0C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91A7C3-36C8-481C-8430-54CA9C3F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ABFB-CB62-4579-8C80-6F799FFB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BEEAC-4B55-4DB2-8820-4766659E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7D6507-DC83-4EF3-82B5-E676DA26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0CE5B7-CCA8-4BA0-B101-E4975947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DF0C5-2414-48F4-A132-11881D3B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800146-1034-4092-8913-CCEA6505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2FD07F-C507-4E3A-B4B6-9BA0F746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827D17-8A8B-4E61-B3AA-3B386EDA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D09C7-F98F-4604-AE38-7EA6B971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5E29AD-0A1C-46F4-ABE4-A66160A5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FC469-7616-4FED-9D61-DF6B36FC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5DB3-BBC7-4E88-A276-28379ABC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240BE3-0741-4BE2-AEC1-B1E81876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436ABC-C2E1-4D7E-8401-A5EA8951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18384A-4312-42C0-AD6D-14F02A91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D2EF0F-51ED-4F4F-8767-1EC9C51F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2436AD-5247-4F90-B9DC-24C156DC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94A9F-B190-4222-AD27-B4B3B8E8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E7A5A3-5286-4715-BB6D-B92CF20C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62F75-7E52-45CE-927A-4BE7CED4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5AA162-9EA2-4671-9C5D-E41ED66B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EA88A2-EFB6-4677-8D84-75720E0C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B9BC9-6616-4059-835D-518B538A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544E92-6546-477F-8D26-C7A7D865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152A22-935A-487B-AB37-C692F1DF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839CF4-5542-4E24-BF36-76001F49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972622-4C38-4FAE-A291-405873B7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A7FA7C-A85C-419B-89F5-C5653F84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034AE3-BA1C-4753-B778-47F2C441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C3402F-0B19-41CF-94A8-6B82935C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F4AAE8-D571-43DF-844B-D32CDC37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9226B4-F4E1-4510-ACC8-40110205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58F9D0-74E6-4DE4-A262-0044A5D2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3686-3281-4051-8D56-92ABCF0D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2D0611-165D-4FD8-9D0D-82C3B46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CD6415-4F92-4960-AE92-4143BCB2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BC908C-DCF2-4FC4-83CC-FD284769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5D18A1-43A2-436A-B5EA-0AAD6243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85DF83-B503-4AD7-8455-49EBECF7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40CBEA-B0A9-4A8B-8954-3E17BF08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AF9971-1978-4FB8-A7DA-B9F57CEA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31DB20-5848-409B-9F1A-DAF1A45A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0180FD-0868-4362-B3C8-DB8877C2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94BB2B-190E-409C-840D-B9A593AD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06FC-DD34-48A9-AD60-AE5A0691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9A7346-BFD6-4B5C-9044-B48519E5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750854-692E-4032-8EA6-48C290B2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362596-E945-4882-8EF1-B1EA5B27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FC872C-DA90-41E4-BB22-357A5CB3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B61AA1-CA4A-491E-A136-7384AEFA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9FC981-EF5B-455B-B1BC-6B2FAEBE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0474C2-47E2-4E2B-BEA0-C22035F3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61A1-E36C-4FD3-B930-AB571AED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4914-C340-4A3E-AD96-32419363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C3A-EF8A-4706-9F12-1569D368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8BB01-452B-4F1F-B5AA-30A100B6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5DBA-5276-4569-B1ED-2328E621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6EB7-4D51-433B-95C8-D778EBCD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F0935-963C-4EA6-91F2-9A43B8AE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83C6-07DD-405F-A9CF-472DAB83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50C21-9EA0-4BD4-A728-A97FCF1B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99B2A-226B-423B-AB7D-BC0310C4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9FD95-5B25-4B61-A575-4DCA4D54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FC308-6576-4814-A675-91894855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B2A0F-6780-4A2D-92F6-7B66B00E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482-C849-4327-800B-CEE303B9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A839D-E45B-4242-B3FF-591B6618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F3DD4-9711-4293-AFE2-57C08E4E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0F2D3-4381-4798-9BAA-5AF8FC0D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706DE-7426-457F-9A68-EA477D94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20A32-6252-47B0-AC3D-598FBA09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78EAA-55B2-4BCD-A437-390E6553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883F0-7D58-4E90-B2EC-1F039EEB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5D18B-A325-4047-A479-9ABC951D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5557C-1C21-434F-A067-147F4624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DDDD3-7A48-4F78-9BD6-87150848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AE2-BEBB-4C47-99AA-ED2A014A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70DE1-D1B9-451E-9795-676BFEA9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7053C-0D5F-466A-9D24-867CE746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30CAB-C48D-4051-971F-60AE1EDB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D4B4D-E550-4273-BF83-DDC62D6A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0D780-9257-4BEE-A617-6DB61992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6B05B-7068-4EF6-9390-CDD80923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F8F84-8371-4D2B-B14A-B05BF49F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9C1BE-07FC-4771-A35B-1C0FECCE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C5B23-8C50-42F1-BF48-F2E922BC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A2CB6-6D80-457E-B432-B7732D84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26D-AEE8-4939-8924-E20E2C2C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67709-53C8-4ACD-8D67-7C3575BE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DB955-871D-4191-9DA2-65061B48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DA29D-6A57-4C88-9386-D254A3EE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E635E-462B-43E7-929D-C236D4C0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9C7BB-D919-4A3D-8CD6-55655A0F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F2FD4-B8A1-4F14-9D52-700ED53C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C94F9-7641-4BC7-85E6-5B2596AA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9AA09-0C2E-4F2E-B87C-57BB1FC9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2E9F2-55DD-4C3C-A2F0-B6CEA4F4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B117B-9C2E-4704-8B52-CB685EC7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C31-4D12-4B56-B33B-915670A1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EDE69-1AD6-445B-B2AC-4DD2FFD9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B4A9A-84FC-4BBA-9067-0A9E1CD1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D90EF-1EFC-42E4-A9D3-65693B1F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9A712-16CC-460A-AC8A-5EDF3165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4E834-C6A5-4293-8F90-F556AC78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88D45-01B7-4BFB-8E7B-F6E5C154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7D32D-2524-483B-8A9F-E9F0BF8A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9A24D-96F1-4036-B9BD-F8151A86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57643-DDA4-4A98-8479-232BA4CC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8FEFB-60E7-4C59-B67F-B5C03528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329-264D-4A20-AD8D-FFD301C7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406FE-AE6C-49F6-BD32-B0AF2EF2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8C7FA-741A-45FC-A7F2-F06FD01B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EB02D-5C35-458E-8121-BCBEBAE7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FD81C-E509-4F5C-9A9A-36277281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44EED-382F-4BD2-B5BB-0887FFC6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FBE6C-841D-4A08-A0A2-C4F0A41B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54659-51BA-4AA3-870B-0EC6EA8D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0E2CE-CBBA-404B-AE31-6BD3E98E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87AEE-3F7D-4761-9960-0CDCE0DB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D99D6-D7B5-4F01-9DB0-B154DE02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6FB-FE8E-4773-9E06-60214F11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DF7E4-AD5C-4DDE-BD0E-52AFB1FC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EFA87-4425-4F70-AB88-BF77AFD4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544E2-4A02-4EE7-AF78-C1C79963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A2AA8-FBF6-42FC-BE06-976B0EE2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EE985-A6E3-428F-B70D-4E370386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7AD5A-433A-47FE-BC6C-EE3B797C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FE26B-7B8B-4505-A8A8-87F24E75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37570-C921-4923-97FE-7CDCB603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985F0-FB45-4353-A44F-60EEC7A0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01FF2-B23D-4425-9AF9-9313B4E9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DE2B-D8F2-45CC-8154-64848FADA7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6B35-E0EA-40BB-A48F-D4A641CBBC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30F3-89E1-4954-AAF2-22EF87ADAD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7EFD-6916-44C0-8E15-539076A912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463D-EDF2-49CB-991D-C7E91D2637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2AFD-01AE-497A-BF07-FFAC637FBD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491E-BD7A-4D6C-BBBC-1431581D7E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07BB-9DB1-4A91-B406-8AB287C59D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06AA-6C32-422A-B9F8-08CB1C9A4F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DE5A-2D3A-4BEA-811A-F3C184EA74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961A-DC97-416E-BE3A-00AE2E55E4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B9A2-A235-4749-953A-0382C438B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855B-4BD4-4B51-A6EF-C23C57C0F9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A8E0-AFC2-495B-A6E9-167456AFCF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B5B7-2B5B-4696-ABA5-82149B40BE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DDA8-1971-4435-BD29-6ADDAB8A58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8891-DE3C-4780-8403-88B5B2A82B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0058-6242-4F0C-AFC4-5EA80D4430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70A4-17A1-4E85-9DA4-FDAEE0CD63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5B4B-94BE-4881-AC05-E7BD18E7E4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C43B-015B-42BE-8D57-6277BF0305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3313-5AF6-4F7F-A77B-861637FF88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03E3-579B-42EF-8193-2CAED2A607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0E4C-AC14-40D9-8DBA-4243D6305D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456E-A4AD-47AA-8689-6CE7BA7BDB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362A-FFAF-412B-986B-DBD8D6EF05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6B93-B568-4F2C-97F0-760DBBEDB1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3C75-E217-4E3A-9A38-C97E7388F3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2CEA-F875-4C09-BA03-D5551DD2C7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BD97-8F28-43EB-ADD3-14456FCAD8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67D4-A094-49C8-A05A-4CAD2D7F8B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4BB0-F4CF-4003-84F4-F127E26E4D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D639-9D64-466B-A7E1-116B2B711A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9165-EF87-449D-857C-B968FE7BF7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0413-B4A0-4C1D-B292-0829A98FB7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3D13-E763-4CD6-9DDB-956AB4382B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33D6-AA63-4B60-8A81-67B8B7734B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A637-49A0-4E82-BF88-7004EEC2B4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3A15-D9F8-4239-8CB6-FC77776E67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1B74-8D39-4AEA-8337-B6CBA0F52E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8EDB-829C-4AB0-B1DF-D7556B866B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893E-FFF2-4F20-B98C-010F622822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64960" y="3005280"/>
            <a:ext cx="87728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9240" y="971640"/>
            <a:ext cx="8705520" cy="55148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2987640" y="1758960"/>
            <a:ext cx="1728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651640" y="2276640"/>
            <a:ext cx="3241440" cy="41767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667640" y="1716120"/>
            <a:ext cx="129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28560" y="1057320"/>
            <a:ext cx="7886880" cy="47433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024360" cy="33112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2987640" y="106668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5148360" y="1628640"/>
            <a:ext cx="3240000" cy="41040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7308720" y="1036800"/>
            <a:ext cx="151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219240" y="990720"/>
            <a:ext cx="8705520" cy="48765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971640" y="285264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4932360" y="233352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4932360" y="285264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6"/>
          <a:stretch/>
        </p:blipFill>
        <p:spPr>
          <a:xfrm>
            <a:off x="971640" y="449424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7"/>
          <a:stretch/>
        </p:blipFill>
        <p:spPr>
          <a:xfrm>
            <a:off x="971640" y="501336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8"/>
          <a:stretch/>
        </p:blipFill>
        <p:spPr>
          <a:xfrm>
            <a:off x="4932360" y="450864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9"/>
          <a:stretch/>
        </p:blipFill>
        <p:spPr>
          <a:xfrm>
            <a:off x="4932360" y="5027760"/>
            <a:ext cx="295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209520" y="1019160"/>
            <a:ext cx="8724960" cy="48196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18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29876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6804000" y="4164120"/>
            <a:ext cx="180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233280" y="612720"/>
            <a:ext cx="8677440" cy="61246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1476360" y="5734080"/>
            <a:ext cx="741672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476360" y="6237360"/>
            <a:ext cx="741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731880" y="119160"/>
            <a:ext cx="7908840" cy="66196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547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1187280" y="220500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1187280" y="270828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1187280" y="321300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1332000" y="4724280"/>
            <a:ext cx="67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1332000" y="522936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8"/>
          <a:stretch/>
        </p:blipFill>
        <p:spPr>
          <a:xfrm>
            <a:off x="1332000" y="573264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9"/>
          <a:stretch/>
        </p:blipFill>
        <p:spPr>
          <a:xfrm>
            <a:off x="1332000" y="6237360"/>
            <a:ext cx="67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71360" y="760320"/>
            <a:ext cx="8801280" cy="58485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826920" y="3529080"/>
            <a:ext cx="59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755640" y="5129280"/>
            <a:ext cx="59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611280" y="5589720"/>
            <a:ext cx="8137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179280" y="1138320"/>
            <a:ext cx="8785440" cy="182232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2" descr=""/>
          <p:cNvPicPr/>
          <p:nvPr/>
        </p:nvPicPr>
        <p:blipFill>
          <a:blip r:embed="rId2"/>
          <a:stretch/>
        </p:blipFill>
        <p:spPr>
          <a:xfrm>
            <a:off x="1271520" y="3273480"/>
            <a:ext cx="6724800" cy="2162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327672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298764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5651640" y="15573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5580000" y="2060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8423280" y="1557360"/>
            <a:ext cx="46980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8"/>
          <a:stretch/>
        </p:blipFill>
        <p:spPr>
          <a:xfrm>
            <a:off x="8459640" y="2060640"/>
            <a:ext cx="47016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9"/>
          <a:stretch/>
        </p:blipFill>
        <p:spPr>
          <a:xfrm>
            <a:off x="327672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0"/>
          <a:stretch/>
        </p:blipFill>
        <p:spPr>
          <a:xfrm>
            <a:off x="2916360" y="4508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11"/>
          <a:stretch/>
        </p:blipFill>
        <p:spPr>
          <a:xfrm>
            <a:off x="637236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12"/>
          <a:stretch/>
        </p:blipFill>
        <p:spPr>
          <a:xfrm>
            <a:off x="6545160" y="443700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7:0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